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81070"/>
        <c:axId val="4201425"/>
      </c:barChart>
      <c:catAx>
        <c:axId val="58781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1425"/>
        <c:crosses val="autoZero"/>
        <c:auto val="1"/>
        <c:lblAlgn val="ctr"/>
        <c:lblOffset val="100"/>
        <c:noMultiLvlLbl val="0"/>
      </c:catAx>
      <c:valAx>
        <c:axId val="4201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1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59E-FC75-4835-BEF9-68F049A4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E18-133E-45CF-A52B-6FB277C7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2B2-C593-447A-A9E8-AB135C96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BF9-13A5-4F4D-8F49-D841F251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7A1-6E8A-4DF0-BF89-DEA2BC9F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854-12AB-4E34-B642-4931BE36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225-1902-40AE-AC4B-7F3F282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1A5-F5B1-4550-8DD6-4AB2C11B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C4A-ABB7-4B74-A5F7-3F6E83E7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7D4-3679-4E7C-B226-864C6CB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855-A4FC-4B33-8396-2624DAC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32D-F851-48B5-89E9-D943DA6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CA927-AA7B-4EDA-AA8A-5F06517AC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