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49564"/>
        <c:axId val="82832745"/>
      </c:barChart>
      <c:catAx>
        <c:axId val="74349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32745"/>
        <c:crosses val="autoZero"/>
        <c:auto val="1"/>
        <c:lblAlgn val="ctr"/>
        <c:lblOffset val="100"/>
        <c:noMultiLvlLbl val="0"/>
      </c:catAx>
      <c:valAx>
        <c:axId val="82832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49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17C-84CE-4972-803E-9FBA09C6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2856-8A24-4461-A534-E06DC3A1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578-60F0-467E-BA3F-742FC68F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BC3-39D7-4760-A9CE-ED2B9B44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7CC-93CB-455E-8034-B3988C0B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FA2-5395-4C85-93CC-4AA56A4B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A9E-A871-4A23-B71C-A3519A30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AE8-47E7-46A9-B9AA-9BA5165E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911-E402-416D-B5A2-AE6B159D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428-118D-4850-A0EA-9219155F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575-F2C0-4E0E-AE31-73242EEA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D53-E8CF-4156-A79D-4F8B8C3E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4DE6E-3EF8-4865-B700-2635B26EDF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