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50066"/>
        <c:axId val="94549905"/>
      </c:barChart>
      <c:catAx>
        <c:axId val="77950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49905"/>
        <c:crosses val="autoZero"/>
        <c:auto val="1"/>
        <c:lblAlgn val="ctr"/>
        <c:lblOffset val="100"/>
        <c:noMultiLvlLbl val="0"/>
      </c:catAx>
      <c:valAx>
        <c:axId val="94549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50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381-E80D-4C1F-BFB3-E39A82E5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915-7BFB-4804-9FAF-C506B600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2F7-7AE9-40DC-91DC-DCA8D500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18C-5D36-458D-AD3B-81EAF266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0CC-6DFB-499F-BFDD-89D27A0C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D97-F14F-420D-B1C7-11EF4917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436-C389-4988-A6E8-3DAEA263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F76-1635-43F3-9B9A-AAEDE36C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88C-7659-45EA-96CB-082BD48F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B36-60F1-4152-AC94-6193BAEC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47F-E0A4-4131-8FE1-CD4E6871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8FB-353A-463A-9088-8F106DCE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5D56F-382E-4EB1-ADD9-D26DB6CB9F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