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22600"/>
        <c:axId val="60437633"/>
      </c:barChart>
      <c:catAx>
        <c:axId val="722226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37633"/>
        <c:crosses val="autoZero"/>
        <c:auto val="1"/>
        <c:lblAlgn val="ctr"/>
        <c:lblOffset val="100"/>
        <c:noMultiLvlLbl val="0"/>
      </c:catAx>
      <c:valAx>
        <c:axId val="604376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226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70D6-938F-4370-944F-52A1B421A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C2F-C211-4F15-858C-F7E7986D1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69F5-BB38-4CA7-BD63-C813FE220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6524-01B7-4087-AA63-BC9C4CF4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93B6-C6BA-4C19-A4B8-AE11579B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D33-B203-4394-8E94-133ACFC4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8F0E-039C-459C-9D24-6E44117E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D9D9-C793-4886-9631-45D62783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00B-F684-40EB-AC76-E2E54027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363-F872-4298-93F9-680F2F7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3EB-8D35-4EE0-825B-812E7C1B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5BD2-C663-4054-82A0-8C1EB2BB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CA2232-2AA3-4988-9E3A-8688D84C13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