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7725"/>
        <c:axId val="65176756"/>
      </c:barChart>
      <c:catAx>
        <c:axId val="2877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76756"/>
        <c:crosses val="autoZero"/>
        <c:auto val="1"/>
        <c:lblAlgn val="ctr"/>
        <c:lblOffset val="100"/>
        <c:noMultiLvlLbl val="0"/>
      </c:catAx>
      <c:valAx>
        <c:axId val="65176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7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B17-F0BD-4B14-9360-0A4587C7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DD8-3D46-4321-8D30-C7CBBE92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581-7F43-40D3-9AA5-1A6828BD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DFF-34D5-4149-8710-7DC9C14C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D00-9A1A-4571-A7F3-F3D0F792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100-B15B-4B67-8168-06E1BA5E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EB2-C89F-4A96-A495-0B206296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BCA-B874-4E4F-A316-C0835633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736-7CB2-4253-87C8-F93FE652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040-B72A-4F71-A2EC-4B9685E5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885-9134-4553-B00C-46EDF936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209-AC99-4610-B119-BE2C638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74EDB-C97D-4FEC-B163-2678456D32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