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24233"/>
        <c:axId val="84468776"/>
      </c:barChart>
      <c:catAx>
        <c:axId val="60724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68776"/>
        <c:crosses val="autoZero"/>
        <c:auto val="1"/>
        <c:lblAlgn val="ctr"/>
        <c:lblOffset val="100"/>
        <c:noMultiLvlLbl val="0"/>
      </c:catAx>
      <c:valAx>
        <c:axId val="84468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24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61F-A7A4-4C1B-93E2-91D0EF8D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61F-F334-47A0-8706-B45890C7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A3B-A7F6-423B-A1D0-F4EAD53B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E62-AB28-4E74-A5B8-B4C77AAE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B7D-B4D3-4E9C-B0BB-FB8C3200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6A7-BB5F-429A-91A7-A97AB7C2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601-6863-41E7-8E17-5A815EC9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119-FE1E-44A4-B40F-6AF8A640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9C7-4536-4A8A-A493-473E439B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D4E-F558-4AD2-8243-40C5845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530-A6E6-40B8-A26E-962DACE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2C5-0528-4621-BED4-05A16047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6BCFC-8ED9-4585-ABD5-0C948AEF16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