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18169"/>
        <c:axId val="68264510"/>
      </c:barChart>
      <c:catAx>
        <c:axId val="59318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64510"/>
        <c:crosses val="autoZero"/>
        <c:auto val="1"/>
        <c:lblAlgn val="ctr"/>
        <c:lblOffset val="100"/>
        <c:noMultiLvlLbl val="0"/>
      </c:catAx>
      <c:valAx>
        <c:axId val="68264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18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262-A860-4C05-B53C-C2F8AFCE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3CC-A2A2-411F-963E-EC561E33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899-D61F-48E5-A798-62750A09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7A1-DDBA-42FC-AE02-5715F3A7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134-3183-4F73-8D49-507ED76C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7AB-56E5-4A5E-97A4-D3F0596C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5EA-A17A-4105-99AA-48AB7CAE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980-6516-4C7C-9612-0DF239B5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D63-B8A9-41AF-B22C-FDD9EE13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7B7-6E07-4B7D-B99E-7F8D8163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0CC-28D7-46E8-B5BF-CDAAED2E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457-21C4-421A-8FEC-C7BF8C25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46886-A2F1-4599-899D-9F64BAC1F9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