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97806"/>
        <c:axId val="52286415"/>
      </c:barChart>
      <c:catAx>
        <c:axId val="53697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86415"/>
        <c:crosses val="autoZero"/>
        <c:auto val="1"/>
        <c:lblAlgn val="ctr"/>
        <c:lblOffset val="100"/>
        <c:noMultiLvlLbl val="0"/>
      </c:catAx>
      <c:valAx>
        <c:axId val="52286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97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4A5-30D8-4042-90C3-1F8EBA54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9BB-715F-4559-9D67-ED160507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F182-38AA-4925-840D-8A4A713D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A39-38A4-401A-ACD8-ECFA6A88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F32-8613-4101-B9AA-E7DF06FD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D5E-8D9F-425C-8840-99E3221B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927-ACA8-46D2-A419-0DC1A24F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666-1483-42AE-A8DF-BF7A3E29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83C-4B15-4328-89D9-F3197EEF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0CB6-BD4F-41B0-9FB2-03A4B503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49B-181C-42E8-8EE4-E6996133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27F-0AB8-4CB1-8A5E-9E96C8A2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16981-A7FE-43FD-A58D-F5D9E5D011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