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66597"/>
        <c:axId val="91033014"/>
      </c:barChart>
      <c:catAx>
        <c:axId val="30466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33014"/>
        <c:crosses val="autoZero"/>
        <c:auto val="1"/>
        <c:lblAlgn val="ctr"/>
        <c:lblOffset val="100"/>
        <c:noMultiLvlLbl val="0"/>
      </c:catAx>
      <c:valAx>
        <c:axId val="91033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66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3CD-2719-475B-83F8-EF439989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081-48BC-4918-9C72-C11DEE10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A25-F360-4B12-8E51-0F0B21F9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96C-6D88-4188-9D29-67E57AF5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6B0-A9A4-4125-9271-50F96DF4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069-A27B-4E4B-979E-98AE4A0D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443-3FEA-408E-B84A-207DD906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609-0992-41CC-B473-87365E40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9FE-BCBF-4F00-84BC-43711654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3E7-5FF6-4C33-995D-44814268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AAF-02E1-484B-85BA-1CDB7B0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6B5-F900-423C-83D2-A052C24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A437-1CBD-47EF-AA1F-F93DA55790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