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35256"/>
        <c:axId val="43940456"/>
      </c:barChart>
      <c:catAx>
        <c:axId val="13435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40456"/>
        <c:crosses val="autoZero"/>
        <c:auto val="1"/>
        <c:lblAlgn val="ctr"/>
        <c:lblOffset val="100"/>
        <c:noMultiLvlLbl val="0"/>
      </c:catAx>
      <c:valAx>
        <c:axId val="43940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35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20B-EC69-4C55-BB58-CE23C578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F4C-48F4-450A-A3AA-91768F5E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E67-F88A-48A7-9900-58F53994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7B3-B956-48B9-8F8E-1F727A74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D5B-C7FB-4FD7-A1CD-F1830F83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86A-E5EB-4FC5-8458-C1D83C4F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87D-E730-4408-A543-77C9336D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AA4-FD42-48FA-A751-359A72F5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D00-2C08-43C7-A5CB-30354DBA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465-2F52-4914-9425-8087E247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161-EF32-40EB-8E07-EE2285CC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CAC-D264-4A11-920D-7D84C19A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DDC51-D26A-432B-BBDF-D966B2614F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