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693924"/>
        <c:axId val="30770395"/>
      </c:barChart>
      <c:catAx>
        <c:axId val="986939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70395"/>
        <c:crosses val="autoZero"/>
        <c:auto val="1"/>
        <c:lblAlgn val="ctr"/>
        <c:lblOffset val="100"/>
        <c:noMultiLvlLbl val="0"/>
      </c:catAx>
      <c:valAx>
        <c:axId val="307703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939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D4C5-609D-4B13-8A24-542C77C6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C084-BAA3-494E-B2B5-DD6D6437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2896-A67F-458E-8C98-FABBBA1A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CAED-8BD9-4529-B362-9B880692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37E4-FE53-42F7-A814-AB848587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641B-43FD-4E9A-A9C0-C20F9E06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5E89-E08B-406C-A2CE-4EC3F4B9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DD4A-2E35-4C87-AEA3-760B2CE8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A55-DDCD-4009-BBC0-794D4081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F7D7-E475-4357-ADE7-04789FD7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27FB-E604-4EE7-87B0-448A6F8B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806-D599-4CA7-A745-60D16FBA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AD88A-DEA4-4310-AC03-7D9B46980E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