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19187"/>
        <c:axId val="98167883"/>
      </c:barChart>
      <c:catAx>
        <c:axId val="42819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7883"/>
        <c:crosses val="autoZero"/>
        <c:auto val="1"/>
        <c:lblAlgn val="ctr"/>
        <c:lblOffset val="100"/>
        <c:noMultiLvlLbl val="0"/>
      </c:catAx>
      <c:valAx>
        <c:axId val="98167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19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74F-DFA8-4AB9-8252-3162F866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4B4-251F-4DD6-89AF-278941B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90A-F2A9-4714-A9B5-8BC86D5B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FF5-C939-4CE2-A6BD-811B0DE7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D7E-7859-4D56-8040-2ABBF5F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4CF-8A7F-4451-87D1-BAA6A841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AA7-2B37-4A7B-9EDB-5C646E90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468-8F2E-464A-8123-410E861B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BC8-D7EF-4838-BCF8-9ACCDF9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B91-99E1-47E8-BBC5-FCB8C68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A42-8CA9-427C-AA2E-24974CD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728-025F-4C2E-AF75-C34AB37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28100-C323-43FC-824A-088A2ED91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