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08659"/>
        <c:axId val="57078624"/>
      </c:barChart>
      <c:catAx>
        <c:axId val="61408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78624"/>
        <c:crosses val="autoZero"/>
        <c:auto val="1"/>
        <c:lblAlgn val="ctr"/>
        <c:lblOffset val="100"/>
        <c:noMultiLvlLbl val="0"/>
      </c:catAx>
      <c:valAx>
        <c:axId val="57078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8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082-B512-4B78-BC77-917BAB3C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1B3-AF92-4FCA-BAA0-A862ED3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789-56C6-4472-903C-E83D86E2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0F5-2D11-4641-BD56-621E7FFD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F4A-20BD-4AB5-89C3-5B13F817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783-D777-4B60-869F-E0993D16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E6B-CFA3-4051-8FD5-1046682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E6A-5B3D-4C85-BFEF-D3490835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3B1-E91B-405A-81EF-D567DD2C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F62-DAD3-462C-9978-4608F75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AB1-6422-466B-AF81-692914B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299-1F08-4B58-9A12-A23F875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1D5F0-E4FC-48DF-BFA8-17567BD625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