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884316"/>
        <c:axId val="15813229"/>
      </c:barChart>
      <c:catAx>
        <c:axId val="998843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813229"/>
        <c:crosses val="autoZero"/>
        <c:auto val="1"/>
        <c:lblAlgn val="ctr"/>
        <c:lblOffset val="100"/>
        <c:noMultiLvlLbl val="0"/>
      </c:catAx>
      <c:valAx>
        <c:axId val="158132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8843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D415-E214-48AC-A9AF-8A5F26638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FDD3-835A-434B-9F4C-CB1C5CC7D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6469-EFC5-4335-9F30-311E48284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D14F-4404-4350-8A6A-CC0A2AB07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C5CB-CA69-4905-BD49-815FEA219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536C-A69C-4E8F-9744-4F99A21A1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E4A3-6DEE-4672-8471-BCD4BC82B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BDE3-53E5-4B4E-872F-61620DCDF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7EBB-A30B-40F0-8CE6-896DB8F63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A36B-1576-41B4-80BD-B95D7B9B8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0638-E610-4AD8-B17C-07F9BAE80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F40B-52F1-457C-8FF9-872BE603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F266CD-2A3F-40EC-A839-B039466C08D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