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998865"/>
        <c:axId val="80205899"/>
      </c:barChart>
      <c:catAx>
        <c:axId val="879988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205899"/>
        <c:crosses val="autoZero"/>
        <c:auto val="1"/>
        <c:lblAlgn val="ctr"/>
        <c:lblOffset val="100"/>
        <c:noMultiLvlLbl val="0"/>
      </c:catAx>
      <c:valAx>
        <c:axId val="802058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9988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E68B-0568-45FF-AF8B-D9F2B8B8C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8FB4-CBC7-4BE3-B69C-F0C7E7412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2E79-3159-4C08-B2B7-1EFDA96CA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047F-353C-4C72-A65D-2B16469F2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241D-A221-473D-87AB-E5AC9E92B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8413-8ACC-42A7-A765-945C8EDC8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E249-242E-48E4-9EE0-343DBC357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C96C-EF55-405F-B1F2-62A550CE7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5C83-265F-444E-AD45-74D4390A6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40A3-5471-4D62-8086-4F80809D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D919-7A3A-4610-A7E4-793D2173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712A-75D0-4B5C-9043-B93B53DE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493739-4E73-4F2D-854C-215F7F7B8F4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