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55272"/>
        <c:axId val="15210382"/>
      </c:barChart>
      <c:catAx>
        <c:axId val="78255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10382"/>
        <c:crosses val="autoZero"/>
        <c:auto val="1"/>
        <c:lblAlgn val="ctr"/>
        <c:lblOffset val="100"/>
        <c:noMultiLvlLbl val="0"/>
      </c:catAx>
      <c:valAx>
        <c:axId val="15210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5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146-1455-4D43-A9AD-10112D76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342-C020-4D72-82D0-BA04AFC4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ECB-2B99-471F-A379-F958650C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D54-E5F5-40B8-BBB3-16AA3A58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F6E-97C7-46A6-9433-4CA2708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50E-A270-4D3B-813D-777361F2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CDF-5220-476C-A780-938043B5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3A7-B187-41A3-9357-421606F4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0FB-56DE-4153-9CA6-27A39714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BEE-8F37-4767-B2AD-05EA8A1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98C-BED0-4D3F-B457-D14A6BE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D11-CD29-4CCD-A14B-3431490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4E28A-F29D-46C5-8476-10DFCAB0C1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