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57820"/>
        <c:axId val="14067623"/>
      </c:barChart>
      <c:catAx>
        <c:axId val="77957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67623"/>
        <c:crosses val="autoZero"/>
        <c:auto val="1"/>
        <c:lblAlgn val="ctr"/>
        <c:lblOffset val="100"/>
        <c:noMultiLvlLbl val="0"/>
      </c:catAx>
      <c:valAx>
        <c:axId val="14067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57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026-1249-46EC-AA54-2830DCD0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6FB-CFE2-4C2B-AC53-38318C12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C7C-E50A-4782-B043-07628EE2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F43-F0B0-4ED7-A65F-02FFDD1F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EC3-304F-407C-8D45-C59206DE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73F-A3A4-4B25-BD57-BC30D8CC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118-DB2C-455D-8FFE-0B8F8CFE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744-617B-44ED-A079-D9E95B53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D6B-B1C1-4E73-91C2-873684F8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CDE-E6EB-4EC4-B9EF-AE5F404D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C7A-A361-471D-92E6-4938EAF8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820-59F4-44FF-A6FE-9DF325D7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0A53D-AE23-4293-A52F-4A15C5BDBD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