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03499"/>
        <c:axId val="36374425"/>
      </c:barChart>
      <c:catAx>
        <c:axId val="99303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4425"/>
        <c:crosses val="autoZero"/>
        <c:auto val="1"/>
        <c:lblAlgn val="ctr"/>
        <c:lblOffset val="100"/>
        <c:noMultiLvlLbl val="0"/>
      </c:catAx>
      <c:valAx>
        <c:axId val="36374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3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E40-6CAE-46EA-978F-5C5FF3BA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905-81DD-408E-B054-F34F49B2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27D-BBD3-4959-8455-C02E45C6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6FB-3888-4C07-ACE9-A021B2E1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5B9-5879-4760-81E7-B2E4C6A8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35-63E1-4504-86FB-B72FF39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34B-CF92-4F6F-B476-08CA6AF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34B-E6BC-4B29-AFD2-6F1DDED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460-ED51-4721-9649-043137E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CB8-F04B-4CC7-B9DC-90031FF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2F5-FB65-4D29-84C1-C1EC180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BEF-1ABC-4F07-846A-25FA179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99759-20CB-4542-BE82-A2FE67A48F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