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16781"/>
        <c:axId val="90331381"/>
      </c:barChart>
      <c:catAx>
        <c:axId val="61616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31381"/>
        <c:crosses val="autoZero"/>
        <c:auto val="1"/>
        <c:lblAlgn val="ctr"/>
        <c:lblOffset val="100"/>
        <c:noMultiLvlLbl val="0"/>
      </c:catAx>
      <c:valAx>
        <c:axId val="90331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16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329-C42B-431A-AB13-25223DB6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337-39EA-4241-A369-0ABDBB02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A52-63BB-436B-96BC-CA27407F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82B-A784-465A-9A82-18722456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F7E-6A83-45A4-9BFD-C6AE779A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8B0-3E82-487D-8A79-FA580D29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BDD-6605-4F48-BB4E-B0E8C163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8C4-0689-4806-91B7-3FBAA357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E39-35E8-4289-A8D3-6BFB26CA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27E-E852-4503-A610-179BC35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F9E-9CC7-468A-8044-E6DF71F2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44C-1271-4289-9629-C7631893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C3BB0-6ECE-43EC-BC65-1F9898225D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