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68841"/>
        <c:axId val="10298548"/>
      </c:barChart>
      <c:catAx>
        <c:axId val="69768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98548"/>
        <c:crosses val="autoZero"/>
        <c:auto val="1"/>
        <c:lblAlgn val="ctr"/>
        <c:lblOffset val="100"/>
        <c:noMultiLvlLbl val="0"/>
      </c:catAx>
      <c:valAx>
        <c:axId val="10298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68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5C7-8963-45C3-884C-38857C83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7A7-A270-4DDA-B450-ED399B57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899-BF3F-4BF4-B524-7FAA9BC4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C1E-2E27-447F-974A-906572C6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8B3-068F-4ECE-9951-0E681129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E66-E570-4AFE-B910-D2131A12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6FA-BAD0-4353-A3CF-A64F67CB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347-3324-42C1-A695-AA6F35DD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86C-3BBE-420A-B338-7EA6771A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D58-6ACF-4C40-8385-CE22FD43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0AA-A056-4300-89A5-6DE9994A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FAA-9EDD-46C8-BFEC-395BEBD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69EA0-A45C-4D21-BE1C-33808D5C67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