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86237"/>
        <c:axId val="46369156"/>
      </c:barChart>
      <c:catAx>
        <c:axId val="53486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9156"/>
        <c:crosses val="autoZero"/>
        <c:auto val="1"/>
        <c:lblAlgn val="ctr"/>
        <c:lblOffset val="100"/>
        <c:noMultiLvlLbl val="0"/>
      </c:catAx>
      <c:valAx>
        <c:axId val="46369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86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255-2DDE-495A-9D96-1F2E0EBB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9DB-83BA-404E-A376-2A4E994E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222-E321-479A-9363-9C968182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B61-B44A-4BB6-A93F-56B6856A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10D-9719-409A-9FCB-1EC848B4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EB9-9508-4665-B693-A6600122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64A-073D-4086-A88E-8B256DA5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54E-5EE9-4A47-92EF-7E2D4594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332-0E11-45AC-ADD4-28EB4646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1A4-685D-40A3-8822-BEB8E30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333-77F3-44A9-B0DC-907385B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344-BC97-4148-8825-8654B75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DE418-0538-4527-95DB-AA8E71DB5D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