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40868"/>
        <c:axId val="21400048"/>
      </c:barChart>
      <c:catAx>
        <c:axId val="47940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00048"/>
        <c:crosses val="autoZero"/>
        <c:auto val="1"/>
        <c:lblAlgn val="ctr"/>
        <c:lblOffset val="100"/>
        <c:noMultiLvlLbl val="0"/>
      </c:catAx>
      <c:valAx>
        <c:axId val="21400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40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863-721C-4AEE-9DFB-76379ADC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280-D221-4F77-A8E7-535134DF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FBF-3FCD-4D9B-AE47-BE6F6A27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1B6-C955-427D-B44D-B6D10EFB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D67-8351-474D-82D7-823ADB49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DE5-0721-4F9D-9EBB-3D245FBA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254-9618-4A30-87D0-988AAD75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020-D3B6-4DD6-866F-F9B175E6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98B-68A3-4E04-B49C-5A7BF312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36D-FF47-4427-8FF5-8A498D8D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5BE-2776-4946-B834-A4FF2103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B5C-ED9D-4727-A185-F8A13045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54CCE-40B5-48B8-8AFB-B743284A0F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