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17508"/>
        <c:axId val="87666280"/>
      </c:barChart>
      <c:catAx>
        <c:axId val="36017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66280"/>
        <c:crosses val="autoZero"/>
        <c:auto val="1"/>
        <c:lblAlgn val="ctr"/>
        <c:lblOffset val="100"/>
        <c:noMultiLvlLbl val="0"/>
      </c:catAx>
      <c:valAx>
        <c:axId val="87666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17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30D-DA6B-4E20-BA3D-3BF5821E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C8A7-624E-4376-936A-14E3C8D4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9E0-8F18-419D-BB65-B55FC25B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6FF-088D-4EA9-B3F5-BBA97FB8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B3E-7F3B-4FCF-9858-DF4F95D2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B52-7268-465C-AB92-1B5372A8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1B0-A0F8-4F16-ADE2-9B6DC415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7E8-F611-4378-8CB8-BD8820FD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E36-DC4D-46F4-B592-D337479D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CA6-4505-4E6C-AE81-0EAB121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337-FD89-4ADD-8EC6-36F11D3C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F98-D477-4DBD-9123-78DA6E00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C9E51-62EF-45AB-BC8C-42BBFA0D9D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