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88175"/>
        <c:axId val="21559908"/>
      </c:barChart>
      <c:catAx>
        <c:axId val="42788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59908"/>
        <c:crosses val="autoZero"/>
        <c:auto val="1"/>
        <c:lblAlgn val="ctr"/>
        <c:lblOffset val="100"/>
        <c:noMultiLvlLbl val="0"/>
      </c:catAx>
      <c:valAx>
        <c:axId val="21559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8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771-9B1C-49B6-9FD7-6002DE98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D09-A7AD-48B0-A754-A5375E2F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A41-6961-46C5-B3F0-C805E4EE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E3D-7223-406D-9E86-A99FDB47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B00-DAC8-4B4E-ABFE-3560239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E2A-A30D-467D-8DD3-EAA662A3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53F-BAE5-416F-A0D2-D59ACB64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BD4-8BB0-4671-BCB9-E558D08F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710-2E77-48B5-90E5-8CAC125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A57-94DC-47EA-9E02-C7D11DF8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5FE-172E-42F1-8BF7-F2011D3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36C-A088-4A30-9E74-D7C7B00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10BA4-98D4-42C5-A6AB-387865274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