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01402"/>
        <c:axId val="47972960"/>
      </c:barChart>
      <c:catAx>
        <c:axId val="599014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72960"/>
        <c:crosses val="autoZero"/>
        <c:auto val="1"/>
        <c:lblAlgn val="ctr"/>
        <c:lblOffset val="100"/>
        <c:noMultiLvlLbl val="0"/>
      </c:catAx>
      <c:valAx>
        <c:axId val="47972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014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4757-7EDB-47F8-A252-B378012F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C49-FC2A-47BC-95B9-5F286FF0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BD5E-A976-489D-95CC-8D262D4F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A14-876F-44FB-9266-91624349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5C4-40E9-4DAF-943C-2B0110E5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CD0F-5FB6-4F02-BF64-0022A16F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5003-D5DA-4189-A680-64EFB0E0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3165-E302-4820-B284-3BA11937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F54-8646-4E0A-9B85-DEC8A6AB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14A5-3CD1-4F52-BEAB-8CF579CF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7763-4FA9-4B92-992D-76BE111C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12F1-9F10-4DF4-BFD8-A0CEBC88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238E3-9CB7-47CA-832C-FCEE97378B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