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22611"/>
        <c:axId val="30263365"/>
      </c:barChart>
      <c:catAx>
        <c:axId val="69322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3365"/>
        <c:crosses val="autoZero"/>
        <c:auto val="1"/>
        <c:lblAlgn val="ctr"/>
        <c:lblOffset val="100"/>
        <c:noMultiLvlLbl val="0"/>
      </c:catAx>
      <c:valAx>
        <c:axId val="30263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22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DCB-422A-4AC0-A093-73A7EAE6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BB6-210E-4942-BDE9-343D4A7B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104-BCEA-4116-8C6F-F586F508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3A3-7FEE-42D7-9556-D0579015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EF3-A66C-416E-8335-1F96DD72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95D-6D44-46DC-A241-16BC6E8B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A54-8D78-46FA-8C0E-5D3D4333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A98-BC14-4B1A-A26E-E0DDFBB3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8E3-7D39-4FDF-AF0F-CA13E138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EAD-B163-4E6C-85FE-7A92FCF9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9B1-8F8F-4C07-B6C8-BFBDDAFD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05E-E95E-41D4-98A5-A978CE63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32D3A-6360-4953-8BE8-339C6AC795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