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91723"/>
        <c:axId val="59704267"/>
      </c:barChart>
      <c:catAx>
        <c:axId val="47991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04267"/>
        <c:crosses val="autoZero"/>
        <c:auto val="1"/>
        <c:lblAlgn val="ctr"/>
        <c:lblOffset val="100"/>
        <c:noMultiLvlLbl val="0"/>
      </c:catAx>
      <c:valAx>
        <c:axId val="59704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91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DDB-97D2-466A-8DD9-72F905DA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7F7-D99D-4E5B-8BD4-6AD96131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E7A-CE80-4940-8ECB-7CFEBEB4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8AB-0DFC-4C4E-9458-15F447AE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767-F51E-45C3-9874-BC97C794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D47-3E45-420E-89F6-6E7570F2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C2D-EB3C-4EE4-9175-759946A8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EE6-16CF-40CA-BCDF-6CD6964F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F30-9F43-4849-B051-5EC47B61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FF1-B4B7-42FC-846C-CAA7950D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B6F-8DE2-4673-9EAC-A8DF40C0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FC0-CB71-4F5A-8E7F-9FF0E958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85E30-9916-4AE7-8B7A-0A42D3FEBA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