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00178"/>
        <c:axId val="75141166"/>
      </c:barChart>
      <c:catAx>
        <c:axId val="55800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41166"/>
        <c:crosses val="autoZero"/>
        <c:auto val="1"/>
        <c:lblAlgn val="ctr"/>
        <c:lblOffset val="100"/>
        <c:noMultiLvlLbl val="0"/>
      </c:catAx>
      <c:valAx>
        <c:axId val="75141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00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6DC-2967-4BDC-BDB8-86805D8C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DCD-065A-4B19-A813-0F3A7E2E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8BE-3CD8-4505-8D5E-6766F9C4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1E3-9691-4641-8F7C-012D5BD6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9CB-313C-4AC7-90C6-E55149C0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69F-23AF-4B91-9B28-751CEE3E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EFF-A0CB-4E19-9325-3F80BE2F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FAB-F590-4E11-8D17-519986C3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D3A-6BA5-4DDD-949B-A17FAB66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C84-AE00-4533-BADE-286254FB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C48-52FC-4E15-854A-F3D43EBE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329-BE52-479F-BA88-4CE5637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FF8EF-DCB0-4D34-AB1F-153464E85A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