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1263"/>
        <c:axId val="64708025"/>
      </c:barChart>
      <c:catAx>
        <c:axId val="3361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08025"/>
        <c:crosses val="autoZero"/>
        <c:auto val="1"/>
        <c:lblAlgn val="ctr"/>
        <c:lblOffset val="100"/>
        <c:noMultiLvlLbl val="0"/>
      </c:catAx>
      <c:valAx>
        <c:axId val="64708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1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A3B-8716-4DCE-B52E-E4F301F7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4A0-B1ED-4716-84D5-8FEA7769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D13-A366-46CF-8313-9A654774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F4B-3CC1-4C36-A8B2-39D03A51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9EC-A640-4B19-91B9-3CF499D6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E5B-8FC1-4F5A-A307-E5F9A0A9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F84-0441-4E81-ABF6-02D80AA7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282-E6F4-4307-A48D-3ABE3882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794-626A-468A-ABC2-5E4811B3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408-A828-40AB-A741-DB19D0CB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645-3449-4281-AF83-C2E487B2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3B7-8A6D-45F6-97A2-A07FFCC0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07F7D-4065-4D04-9795-A8063A985F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