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43970"/>
        <c:axId val="15671619"/>
      </c:barChart>
      <c:catAx>
        <c:axId val="79643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71619"/>
        <c:crosses val="autoZero"/>
        <c:auto val="1"/>
        <c:lblAlgn val="ctr"/>
        <c:lblOffset val="100"/>
        <c:noMultiLvlLbl val="0"/>
      </c:catAx>
      <c:valAx>
        <c:axId val="15671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43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4E3-1EC1-48D5-828C-2C85218D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531-441F-485E-A460-7ACE2766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757-3747-45D0-BDCE-174C3091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3D9-A05E-4625-BCB4-191F5BC2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169-AEA9-4305-AD2E-10270B6C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B15-4959-41BA-BDE0-402419F9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6C5-25D8-4CE9-96C0-5128E94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57F-8D68-48D0-BC7A-5E14C493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921-7130-44AE-A9E8-85440C1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E3E-3217-4B56-8F72-F4B9C3A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EDC-5048-4AC0-8994-D8DF4B0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2AD-49B3-48F2-9AB6-0465E5F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D7650-8720-460A-B08F-D22CD891ED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