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25707"/>
        <c:axId val="17609613"/>
      </c:barChart>
      <c:catAx>
        <c:axId val="77225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9613"/>
        <c:crosses val="autoZero"/>
        <c:auto val="1"/>
        <c:lblAlgn val="ctr"/>
        <c:lblOffset val="100"/>
        <c:noMultiLvlLbl val="0"/>
      </c:catAx>
      <c:valAx>
        <c:axId val="17609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5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030-07DF-42B0-9C65-3A82A9E6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E81-0027-4020-BB33-BCE90893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0B2-12C7-4173-8447-E76AE9AC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011-BDEA-4BCB-818F-FE157BD1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AA5-BC68-4FFB-839F-38CEF8F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949-7B81-49C4-AA36-FCFAE983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C9B-32DE-41F0-8D9A-B0DF1E02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735-4FEF-4B8E-812C-0CB24B28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D8A-EFCC-4C20-BD7B-68CCBC4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D35-8D9A-4EDB-9483-01FF00A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FBE-949F-46E4-B6D6-A211F3D9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F21-7146-4F41-8A2C-887584F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32B71-A72E-42CC-8A76-95DA41100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