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82611"/>
        <c:axId val="33084338"/>
      </c:barChart>
      <c:catAx>
        <c:axId val="1828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4338"/>
        <c:crosses val="autoZero"/>
        <c:auto val="1"/>
        <c:lblAlgn val="ctr"/>
        <c:lblOffset val="100"/>
        <c:noMultiLvlLbl val="0"/>
      </c:catAx>
      <c:valAx>
        <c:axId val="33084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417-7F0C-4C6F-A7DD-E32B4296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62A-2CB6-49A9-879D-CD8D918F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C80-9544-4B2B-9714-AD6ED511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325-D523-44AE-9104-9E76E5A3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C16-489D-451B-BA8E-9EBEB91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B97-255B-42DB-B2E6-F2851358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EEB-3EF2-4BB5-9E2C-111859AF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99-CF07-4841-A4C7-0CD0990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E1A-FA2F-4B99-8DC1-8BEC8C48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15-DE80-474C-A4BD-47DCEC2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6E4-0495-4575-B4CE-5F730B9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4F6-FF67-4986-A3DD-0D6126A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71932-2DB7-43EA-85A8-A5477E781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