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62570"/>
        <c:axId val="26487863"/>
      </c:barChart>
      <c:catAx>
        <c:axId val="12062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87863"/>
        <c:crosses val="autoZero"/>
        <c:auto val="1"/>
        <c:lblAlgn val="ctr"/>
        <c:lblOffset val="100"/>
        <c:noMultiLvlLbl val="0"/>
      </c:catAx>
      <c:valAx>
        <c:axId val="26487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62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A2E-5AE1-4468-817C-35A45BE8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354-CF67-4F53-B9EF-2FAA1B7B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73D-01B9-4B60-B1E4-4083142E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5D2-721D-49E1-B761-0A310A6A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D70-0414-4B54-9118-BBA9A0D6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306-397F-4295-9AD4-CDC80CEF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7E7-C616-442C-A00E-DD421044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CBF-22F1-474F-9FEF-3DF6633B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65D-8DFE-475D-9EDB-F7BA9AD8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659-2120-4A73-AB1A-061DC30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AE3-4224-4186-A08B-7D9A27B5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FC5-A728-454C-B723-DBF77EFE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0D0D3-9CCF-4A7B-9BF8-C43A8F1BB1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