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69864"/>
        <c:axId val="25742171"/>
      </c:barChart>
      <c:catAx>
        <c:axId val="46969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42171"/>
        <c:crosses val="autoZero"/>
        <c:auto val="1"/>
        <c:lblAlgn val="ctr"/>
        <c:lblOffset val="100"/>
        <c:noMultiLvlLbl val="0"/>
      </c:catAx>
      <c:valAx>
        <c:axId val="257421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69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F0D-2EDF-4AB3-AD64-A91F0730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DE7-2F48-4D93-9032-EAD8E866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CE1-4DEA-48B8-9B30-FC43E1F3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1F0-7383-43DB-BADF-23FE83A5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A5F8-1D26-4505-9E54-80363B54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1F4-CF02-48A8-BB8A-9AF01FE8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BDE-5BE1-40A4-9F8A-CA63335C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FA1-25E7-4019-8817-14D42533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10B-819E-408B-AAB1-92F34D16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E88-7315-4CEA-A5B1-C6D3C66F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367-E6EE-448A-B4F3-7BA3DDC0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C6B-07C2-4A0B-A2CD-E34821F1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AEA2E-A2E0-439F-9142-99EE16850E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