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06464"/>
        <c:axId val="9025117"/>
      </c:barChart>
      <c:catAx>
        <c:axId val="20906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5117"/>
        <c:crosses val="autoZero"/>
        <c:auto val="1"/>
        <c:lblAlgn val="ctr"/>
        <c:lblOffset val="100"/>
        <c:noMultiLvlLbl val="0"/>
      </c:catAx>
      <c:valAx>
        <c:axId val="9025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06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6B4-78BF-4782-B30B-0919F31A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46A-2451-455D-86AF-2BFA739E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ED8-74D5-4507-8FB5-BBC56411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496-3B61-48BF-83A6-7B4060E0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EB-27B3-443B-88ED-5DECC4A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1DE-EF38-4787-9181-EB7C611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E85-4C43-4549-B048-CC610BD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00A-E5E5-4320-B713-6E7FE96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679-043B-4291-BD2E-12AB3FF6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055-613B-450F-BD13-464ED37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692-1E49-4283-8EF1-A39F049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A99-A7BE-490B-991E-857370C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88677-E6D0-4E69-A522-3EA3C9184C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