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07146"/>
        <c:axId val="42984298"/>
      </c:barChart>
      <c:catAx>
        <c:axId val="62207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84298"/>
        <c:crosses val="autoZero"/>
        <c:auto val="1"/>
        <c:lblAlgn val="ctr"/>
        <c:lblOffset val="100"/>
        <c:noMultiLvlLbl val="0"/>
      </c:catAx>
      <c:valAx>
        <c:axId val="42984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7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176-A7B4-490A-B469-1677D0F2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31C-1FEB-4C99-B474-199E59B6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4B1-D3E2-429E-A934-26C5477F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8C8-7830-4B9B-B1EE-675D94B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DA8-6ADD-4E40-99C6-52DD1B36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61D-A77E-4DC2-88E7-C3E3F95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FFE-D0FA-4050-BDB2-C0B345B6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C9F-F470-477B-ACB8-F1773EFF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6ED-F577-4D0F-A3B9-841BE35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D1A-83E5-41C2-A60C-E498F27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234-07DD-453C-8326-C5D1ED7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F68-1468-4B53-8B1A-74B67AF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55483-5523-4EEA-BD1A-B4F80C219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