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813720"/>
        <c:axId val="22683675"/>
      </c:barChart>
      <c:catAx>
        <c:axId val="248137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683675"/>
        <c:crosses val="autoZero"/>
        <c:auto val="1"/>
        <c:lblAlgn val="ctr"/>
        <c:lblOffset val="100"/>
        <c:noMultiLvlLbl val="0"/>
      </c:catAx>
      <c:valAx>
        <c:axId val="226836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8137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C922-9BCA-4B0C-A72E-27A89141C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4848-170F-41B6-B471-4DB2DEBB0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602E-5871-43AC-8325-511BF1D61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8B87-CB42-4D61-9A18-78776CD8C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D369-C458-4A11-BA27-C0122A79D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0209-F791-465E-96EB-F28F0956D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7692-1D85-4CA8-B2B5-B44C8BD6A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27B4-BC55-4A00-B6D9-1BDC1CEE1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B653-59DF-4479-BF40-FFB45AACB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1CC5-2C0D-4FFC-AA45-2F7C664A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A0F2-2E82-4A9A-A411-FE3BDC09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8684-6745-44F9-B90D-9B88EC6F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363E4E-65CC-4728-A333-1BED4AB51E0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