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388719"/>
        <c:axId val="45357426"/>
      </c:barChart>
      <c:catAx>
        <c:axId val="543887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57426"/>
        <c:crosses val="autoZero"/>
        <c:auto val="1"/>
        <c:lblAlgn val="ctr"/>
        <c:lblOffset val="100"/>
        <c:noMultiLvlLbl val="0"/>
      </c:catAx>
      <c:valAx>
        <c:axId val="453574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887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63E-2BAD-4217-8256-AFAF8E88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E15D-5519-47B4-B1F9-2072D6D2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87A-A715-43B4-9B00-ADB2C4EC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6AFE-267A-4EBD-B9BA-10B94BA8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E1C7-68F0-4652-A689-1BB9ECF8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EB3-C110-4F5C-8325-04A4D509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1B7F-9762-4375-B401-EAE91A50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BF1B-EC91-4614-9D55-596BD837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C22B-0297-4311-AACA-A172387A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9628-16D6-44AF-9F32-81ED6CD1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0351-2ECD-4FCB-B4B3-8FA3671A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07A-7237-40CD-8BBB-DB0D74E6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45DBC-F67B-4597-AD73-EAE805B4CA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