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22087"/>
        <c:axId val="1602108"/>
      </c:barChart>
      <c:catAx>
        <c:axId val="90922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108"/>
        <c:crosses val="autoZero"/>
        <c:auto val="1"/>
        <c:lblAlgn val="ctr"/>
        <c:lblOffset val="100"/>
        <c:noMultiLvlLbl val="0"/>
      </c:catAx>
      <c:valAx>
        <c:axId val="1602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2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D1C-ED4D-4A88-A044-3DF01322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DA0-F29E-49EA-8152-708CE2C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434-562C-4B1D-AD25-7C7CB7BA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15F-B929-4008-9662-D139FB6E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FEE-770F-4506-BA9C-C8E9162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8A9-7511-40AA-BB39-D189FC83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98D-CE51-489E-8CD8-2CCA837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585-2D29-49B7-A2A8-A39CA63D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4CA-FE2F-4B7A-944E-F73991A1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E28-A077-46F4-B04C-848AA3D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019-AAE8-4E11-B54E-CA7491A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BD5-571A-4A13-A543-475BA35D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DDEBA-DC7D-4C8B-85D8-C0CC63BA1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