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45188"/>
        <c:axId val="76824632"/>
      </c:barChart>
      <c:catAx>
        <c:axId val="22945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4632"/>
        <c:crosses val="autoZero"/>
        <c:auto val="1"/>
        <c:lblAlgn val="ctr"/>
        <c:lblOffset val="100"/>
        <c:noMultiLvlLbl val="0"/>
      </c:catAx>
      <c:valAx>
        <c:axId val="76824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45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A76-33E7-47C6-A57C-C1DE52D5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E12-BADC-43F3-9871-04BCA75F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332-11C9-461A-989A-D042A64D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6F6-6EF6-4B45-A33D-254311BA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BD3-A89A-4D19-8A71-061D7B65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378-DBFF-4F38-A4F9-67AA1C0D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70D-CF5B-4562-B76D-CAC88969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911-65E5-4639-A6B6-56970D7B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FFB-CAD2-452D-918F-33F44BE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4D8-984A-432C-B85C-689346B1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87C-E898-4224-88B6-DF1320A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8EC-5D77-4413-8747-41BE31E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570B2-8FD8-48FA-B66A-F1AA50F75A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