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63422"/>
        <c:axId val="79492087"/>
      </c:barChart>
      <c:catAx>
        <c:axId val="63363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2087"/>
        <c:crosses val="autoZero"/>
        <c:auto val="1"/>
        <c:lblAlgn val="ctr"/>
        <c:lblOffset val="100"/>
        <c:noMultiLvlLbl val="0"/>
      </c:catAx>
      <c:valAx>
        <c:axId val="79492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63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F65-E7C2-4B11-B8C1-55ED282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23A-0D22-4DCC-A606-4B2A25BF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0AC-F754-4BC7-A667-AAFD0377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132-036D-4810-A516-2957F729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235-A9F3-47D5-A39F-898E2A30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6B2-380C-426C-8206-774842D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499-E3CE-4219-BEEF-F5B91040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FFD-E6D6-44B3-A233-F02E2BD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2B8-517C-44AB-9886-F3762514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FE4-1998-45E1-B618-7BBA02E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D63-CEAD-4B42-B92C-37F8457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4EC-D48E-41E9-BBF6-965896F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8BF1-0BC7-46A6-8BAD-62EF52F5C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