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69900"/>
        <c:axId val="98233024"/>
      </c:barChart>
      <c:catAx>
        <c:axId val="10469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33024"/>
        <c:crosses val="autoZero"/>
        <c:auto val="1"/>
        <c:lblAlgn val="ctr"/>
        <c:lblOffset val="100"/>
        <c:noMultiLvlLbl val="0"/>
      </c:catAx>
      <c:valAx>
        <c:axId val="98233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69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A2A-0C8F-490C-8D13-2E0AEF51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65C-B406-4F3F-AB83-860315D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AA6-BA02-456A-A3D3-B7EAFCB3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D3D-ADB7-4FEB-98A5-A89E0300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884-0E0A-489E-8CB1-B167DC93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82A-603D-4DD9-A0CC-72114D0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93E-857B-48A9-8269-3FB43BC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A9F-AF36-4CC6-9BA1-4B156317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FF5-D67B-4916-BD4E-5EA0B7C7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10D-C1A4-4D63-9AA2-6282787E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6FA-F5A2-47DD-8330-7A070FEC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0FF-3FF8-4CDC-BD6C-CE76A2D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A8F97-7EC3-4AAD-90AE-BFD3FE2B01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