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7456833"/>
        <c:axId val="16512719"/>
      </c:barChart>
      <c:catAx>
        <c:axId val="6745683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12719"/>
        <c:crosses val="autoZero"/>
        <c:auto val="1"/>
        <c:lblAlgn val="ctr"/>
        <c:lblOffset val="100"/>
        <c:noMultiLvlLbl val="0"/>
      </c:catAx>
      <c:valAx>
        <c:axId val="165127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745683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A694-448C-404E-8470-79C17A336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EA18DC-7CC2-453A-9928-8DCE55AEE6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39A4F-E717-4815-A401-75D88FFC0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26C87-138A-4189-9BFB-EAB9E4A47A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23A0-11F2-4CAB-9FEB-E3E633AB27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10536-3B3D-4DC5-9C24-8E48BDDF7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8119F-185B-4D01-88B1-7E988AC44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AA4E9-F599-41D2-BCFB-54D421BC0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E65EB-9C86-48A2-815C-4CC1ACDF3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A300-D37B-4633-A97B-0C8B2F0C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55D3-BFB7-4DCF-9BA1-575535FDE6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70C08-A094-4433-B5A4-FE40B426E1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B2E5EC-7E38-438E-8C32-CF1E4CA7DC3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