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006107"/>
        <c:axId val="73087727"/>
      </c:barChart>
      <c:catAx>
        <c:axId val="450061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87727"/>
        <c:crosses val="autoZero"/>
        <c:auto val="1"/>
        <c:lblAlgn val="ctr"/>
        <c:lblOffset val="100"/>
        <c:noMultiLvlLbl val="0"/>
      </c:catAx>
      <c:valAx>
        <c:axId val="730877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061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ECA4-CDA5-4337-AB08-BDEF5B0FC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BA6B-A8A1-41C5-B069-9E7228E5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C29A-D10C-481A-9FD2-2331594A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12B7-D27C-4C99-8871-DD95B7DD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3997-7D6C-4D3B-AB13-7A739EBC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236C-9387-466C-8D16-24056049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FF64-D15E-434F-8CE6-D9B65ABC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1E06-378A-4C94-A882-DF2FB556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FFDE-5029-4B0C-9C54-9B225269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DBC2-2796-4067-A7FF-94A9AEAB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65E5-315E-4B52-AF5E-56C6585E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096E-E2D3-41A6-97AE-6A306EAA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1AFF2-00BD-4560-B4B6-1ECF9F435E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