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62231"/>
        <c:axId val="99256894"/>
      </c:barChart>
      <c:catAx>
        <c:axId val="33562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6894"/>
        <c:crosses val="autoZero"/>
        <c:auto val="1"/>
        <c:lblAlgn val="ctr"/>
        <c:lblOffset val="100"/>
        <c:noMultiLvlLbl val="0"/>
      </c:catAx>
      <c:valAx>
        <c:axId val="99256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62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621-A73E-42DB-92C0-0A09E680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A31-2479-4ED0-927F-0AACF501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CD0-0ACE-4E41-A118-8BC1B561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BBC-47D0-43B3-B47E-D3678A0A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EC1-F0C2-42B4-833E-5A9AD634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D40-3770-45DE-B892-8C564B7F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4FB-7379-415A-A9E8-B10376B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425-D3B7-4C53-9940-B635326A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52F-9F02-4F96-80A8-271E0AE4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F03-D1DF-4F1F-8049-5EB2166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B44-0572-4E84-8A05-BF674D1E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894-CF22-4A15-8BCB-9AA538F1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C5393-0C56-4C0C-8E02-5CC4AE9609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