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0066"/>
        <c:axId val="19275229"/>
      </c:barChart>
      <c:catAx>
        <c:axId val="29060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75229"/>
        <c:crosses val="autoZero"/>
        <c:auto val="1"/>
        <c:lblAlgn val="ctr"/>
        <c:lblOffset val="100"/>
        <c:noMultiLvlLbl val="0"/>
      </c:catAx>
      <c:valAx>
        <c:axId val="19275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0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AA8-45CE-45A9-90C2-821DAE54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2DE-025A-470A-A07B-036C2BE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07F-FE9E-44FB-8D7D-83966D7B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EA1-AEC9-4EC6-8443-63364D0C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7AA-19D9-4C29-B7F8-0B7E1B0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4DA-9B11-482A-9AC3-5B074741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C66-C97E-4633-8A35-77D42B1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126-A896-4184-8B80-CEFF32E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8EB-465B-485B-B5A5-65F17FA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212-8230-4A00-9CD3-34FDDDA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5D6-C130-454F-896B-B895671F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C13-971D-4014-B1DD-904AB961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F9C95-43FD-45F7-B06E-B2DA7F794E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