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058387"/>
        <c:axId val="54129905"/>
      </c:barChart>
      <c:catAx>
        <c:axId val="860583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29905"/>
        <c:crosses val="autoZero"/>
        <c:auto val="1"/>
        <c:lblAlgn val="ctr"/>
        <c:lblOffset val="100"/>
        <c:noMultiLvlLbl val="0"/>
      </c:catAx>
      <c:valAx>
        <c:axId val="541299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583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88C-BF7F-4CC4-A0ED-5756F9DA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9C0E-F942-4964-BD50-D59A8187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D5CF-0587-45B9-8E3C-42FAD0EF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047E-C5D3-4312-A86B-D456F889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A909-1A5D-44ED-B05C-90151651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9736-C01C-41EC-B8A6-F61A7CEF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A184-D44D-4C6A-BCFC-2387642C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E2B8-4774-4F7C-85E7-2D7E0D5C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7083-5459-4128-A9EA-9D85AA2C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87C5-F814-4A3B-B7FD-FA8D4DEF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5F07-56A9-4B7A-A9E0-4157EDED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01C2-1E37-4B65-AEA6-9800F988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5EAF6-5701-447C-9993-9E951A9072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