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43462"/>
        <c:axId val="65145418"/>
      </c:barChart>
      <c:catAx>
        <c:axId val="73643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45418"/>
        <c:crosses val="autoZero"/>
        <c:auto val="1"/>
        <c:lblAlgn val="ctr"/>
        <c:lblOffset val="100"/>
        <c:noMultiLvlLbl val="0"/>
      </c:catAx>
      <c:valAx>
        <c:axId val="65145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43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36D9-6520-4D6F-B057-5EA39EAD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32E5-3665-44C7-817D-37DFF15C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FB22-D0B5-4E0C-800B-CACEBC32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EFC6-21B8-4B5C-9A69-D95358A9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A0B-E1CF-4D6E-9680-842552BE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4FA-647E-4C3C-9F1C-7FBF8C79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EAEF-80CA-42EB-B45F-26F2174F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D06B-6CDC-4F6D-94BB-B738FF9A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251A-9229-4B99-BBCA-A49016B6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957F-15FD-4FB5-8133-66E1CCDB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82E3-8D8D-463D-BD4A-FCF65948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9C7E-BFA7-4721-8270-0786871E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24CE1-C206-4086-B923-CC927CA184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