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953188"/>
        <c:axId val="16885814"/>
      </c:barChart>
      <c:catAx>
        <c:axId val="609531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885814"/>
        <c:crosses val="autoZero"/>
        <c:auto val="1"/>
        <c:lblAlgn val="ctr"/>
        <c:lblOffset val="100"/>
        <c:noMultiLvlLbl val="0"/>
      </c:catAx>
      <c:valAx>
        <c:axId val="168858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9531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A1E0-6719-495C-8E7D-7AB92D8E3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0AC4-EBD3-497C-9893-3BDE7C698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A1F5-EB45-49C6-939C-AA51956C3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1059-AE41-48E6-AD53-5EDF339EB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8816-D370-470B-A9E2-97DFCCB95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3A32-060B-4961-91A9-DE4ABC773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FDF4-A800-4A56-92EF-51E60D6C9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1B11-6218-457B-92AD-E8E3746A1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612B-3E28-43CE-A2AC-B41AF4156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1E64-934A-4D99-9D1C-34F8C60C6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6926-9205-4B5E-8111-4193B335E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6214-3B9E-43AB-927D-90B9EC6A3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C237F6-1B39-47FD-B9F1-11FC93B9E31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