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500091"/>
        <c:axId val="42124514"/>
      </c:barChart>
      <c:catAx>
        <c:axId val="765000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124514"/>
        <c:crosses val="autoZero"/>
        <c:auto val="1"/>
        <c:lblAlgn val="ctr"/>
        <c:lblOffset val="100"/>
        <c:noMultiLvlLbl val="0"/>
      </c:catAx>
      <c:valAx>
        <c:axId val="421245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5000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C67D-B6D7-4614-A800-04D602966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2D46-D886-428B-93C3-5FC54532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F562-08F1-487C-8006-217B8AC54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9315-0A11-43E2-B573-146BEF817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D616-AD52-4874-BAE0-72393562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64A4-9626-4A83-B8EA-F89C57D7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3B81-24EF-4756-BE60-6F361948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0496-2B91-465D-BD93-E2A59612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B32E-6875-4725-AED0-DA02995C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028A-0AE1-4BBD-B3EA-282BA539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65B4-A9F6-4F55-8718-670921B4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C24E-0CD3-4883-8CAA-93E0EA0F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8612DE-90FB-41E3-9FA3-E136A2E720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